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F6A-369F-4519-8FD5-49950672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D64-6F35-4063-A2FE-168E120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89E-20D4-4EEB-91D6-F088CE12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761-229E-4825-A89E-AADC71E6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F3A-00B4-4890-9D8F-366D4D2F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9CE-979C-4F20-BB0E-EEBAB23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86D-3822-432E-BBFA-CF04965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3FC-7BBF-47E0-B937-B5D5F2E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58A-979C-4DF7-95D1-B30757EF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7E2-2E7A-4620-81D2-3E71CFE0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5B7-AF52-410C-BB8F-C9C7C229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811-657B-42E1-918E-D3EC2EC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D2D-F191-4EAE-8A6C-6B50DA0F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nkpen2 Script"/>
              </a:rPr>
              <a:t>Let Creation 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8321" dir="20281825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whole ea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verflow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Your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nd Your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untains b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ations trem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t Your feet we cry Ho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re is no one like You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creation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f the risen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the universe re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a shout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e will give t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 the highest pra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Your light Shine upo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Your light Shine upo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 the Glory of Your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ll be shown through all you’ve ma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creation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f the risen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the universe re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a shout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e will give t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 the highest praise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3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creation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f the risen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t the universe re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th a shout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e will give t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 the highest praise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ever, Forever I'll sing       </a:t>
            </a:r>
            <a:r>
              <a:rPr b="0" i="1" lang="en-US" sz="3600" spc="-1" strike="noStrike">
                <a:solidFill>
                  <a:srgbClr val="ffffff"/>
                </a:solidFill>
                <a:latin typeface="Franklin Gothic Medium"/>
              </a:rPr>
              <a:t>(ou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3:09:10Z</dcterms:created>
  <dc:creator>Peter Rivezzo</dc:creator>
  <dc:description/>
  <dc:language>en-US</dc:language>
  <cp:lastModifiedBy>Shoreline</cp:lastModifiedBy>
  <dcterms:modified xsi:type="dcterms:W3CDTF">2010-03-14T19:24:38Z</dcterms:modified>
  <cp:revision>4</cp:revision>
  <dc:subject/>
  <dc:title>Slide 1</dc:title>
</cp:coreProperties>
</file>